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AC-746E-41B6-93CE-FBC99682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E01-48AA-482A-8886-0EE56BFA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DB5-36AE-45D3-A2E1-F741B1BC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15F-0B97-4BCF-9870-58EE577B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BD2-48F0-49B9-998F-2E60530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3D5-F8CC-4423-B87C-FE7E4DD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FDC-28B5-43B6-BA48-F3C80E3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0CA-74BA-4855-98A1-10543EEA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CD0-25D5-4D99-8DA0-291A7512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B48-7E86-4426-9E51-84419EC9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39D-C0E9-4A03-8B14-5714FFB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081-18AC-43C5-8776-21384C9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BEE-AB5D-46C6-9A4E-3E8FB10E0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orestation in South America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happening to the rain for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orestation?  What’s tha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estation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huge problem all over the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ever in the Western Hemisp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uth Ameri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argely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at is defores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est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 the loss of forests d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the widespread cutting of tre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16002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different types of deforestation.  We are going to learn about f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ing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largest cause of defores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thin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e is a lot more available farming 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er the trees and vegetation in the rainfores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an there actually 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 cut down the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ry to farm on the land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ever many times they are unsuccess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ssume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ce trees can grow in the so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lots of lush flowers and vegetation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t must be very fertile so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fortunately, that is not always the c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12286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sh and Burn 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ype of farming is when peo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ut and devel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clearing in the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 crops for a few yea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il the soil is drained of all miner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Le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me thing in a new area of 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23880" cy="14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4952880"/>
            <a:ext cx="16002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z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This is particular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 South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rge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ropical forests have be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eared to create grazing 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azilian 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particul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s because the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ing in so much money from beef ex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specially from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ited St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641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od Colle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uction of trees to be us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el most commonly occurs ar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ties and to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there is a commercial market for firewood and charcoal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e is usually not enough firewood in areas far from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is makes the demand for firewood gre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when the demand is high the asking price for the product is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 are illegally cutting down the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rainforest, and th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ling the firewood for a large prof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352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g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usually preform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rge corpo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ype of deforestation involves loggers wh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 not “clear - cut” a forests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is means i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ggers choose which trees to take and which trees to le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  They only choose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 down the trees that will make them a lot of mon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people assume that this would be better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fortunately this process is ruining about 40% of the trees that are left behi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3:24:44Z</dcterms:created>
  <dc:creator>Cecil County</dc:creator>
  <dc:description/>
  <dc:language>en-US</dc:language>
  <cp:lastModifiedBy>Cecil County</cp:lastModifiedBy>
  <dcterms:modified xsi:type="dcterms:W3CDTF">2007-10-13T10:41:46Z</dcterms:modified>
  <cp:revision>1</cp:revision>
  <dc:subject/>
  <dc:title>Deforestation in South America!</dc:title>
</cp:coreProperties>
</file>